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22.pct" ContentType="image/x-pict"/>
  <Override PartName="/ppt/media/image5.pct" ContentType="image/x-pict"/>
  <Override PartName="/ppt/media/image4.pct" ContentType="image/x-pict"/>
  <Override PartName="/ppt/media/image21.pct" ContentType="image/x-pict"/>
  <Override PartName="/ppt/media/image19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indicates areas we need to w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seen an increase each year in the number of measures at or above HA me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ach student has individual growth targets that are based on grade and starting point on the sc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is data represents a combination of those targ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bars = average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fer to see bar at or higher than dia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see that now in all grade levels 3-7 the average growth of our students is greater than the average of their growth targ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presents an overall improvement in reading in the distr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th and 7th grade not making their average caused questions so I ran a cohort study of the current 8th grade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from Fall 6th grade to Spring 8th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our scores in Reading, in all grades the average growth is greater than the average of the growth targets in each grade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component of the new strategic plan which will help us target improvement as we move forw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indicates areas we need to w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other way for us to look at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ginal target for the percentage was 50%.  This would have made us a high performing, typical growth distr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ategic Plan definition of measurement of improvement has raised the bar for us to maintain high performance and work towards becoming a high growth distr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developed incremental targets for these growth number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reached by 2009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formance of our students who are in accelerated math is higher than the 80th percentile of the NWEA High Achieving N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used the reference point of 80th percentile because when NWEA conducted the HA study, they only identified select percentile marks and the 80th percentile was the high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presents approximately 100 students per grade leve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a was able to start their program at the beginning of the year because they had just hired an associate for a general position who had a strong math backgr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man was not able to start the program until December due to difficulties finding the right per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a - 38 stu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man - 28 stu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7th grade overall math percentage was 46.5% met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is shows first semester freshmen grades for the last 5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combined percentage of A’s and B’s appears to be trending up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-07 1st Semester Freshmen Grades with comparison to All GBS Grades and Non D34 GBS Gr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34 students make up 65%-70% of the freshmen class at G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34 students 77.5% A’s and B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GBS students 77.1% A’s and B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D34 students 76.3% A’s and B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hat D34 has a more diverse population, higher class sizes and spends significantly less per pupil, I believe that the performance of our students at GBS is outstand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address what is happening at the middle school level, especially with our current group of 6th grade stu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all there are many positives that are displayed in our assessment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 achieving norms have become our measuring stick for our district perform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our scores from this Spring compare to the HA no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oint difference is used to test for significance of 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pring 07 ALL  grades are at or above HA n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e 3 &amp; 5 are significantly hig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e 7 - AT HA n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es 3-6 &amp; 8 are significantly higher than HA me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th Regular not equivalent to HA N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th Accelerated significantly higher than both HA 80 and EOC Algebra N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idn’t separate the accel and regular the median = 2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ould the target be for 7th Regula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th Regular above HA norm and equal to EOC Algebra n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th Accelerated significantly higher than HA 80 and EOC Geometry n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es 3, 5, 6 higher than HA me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e 7, 1 point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e 4, at HA me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81080" y="358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104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8108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6104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45040" y="266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9360" y="266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81080" y="358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45040" y="358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9360" y="358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810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6104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18960" y="304560"/>
            <a:ext cx="701028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6104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8108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810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6104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6104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6104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81080" y="358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81080" y="358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6104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8108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6104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45040" y="266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09360" y="266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981080" y="358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145040" y="358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09360" y="358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6104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8960" y="304560"/>
            <a:ext cx="701028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104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8108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104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6104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104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81080" y="358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1932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1039680" cy="6845400"/>
          </a:xfrm>
          <a:prstGeom prst="rect">
            <a:avLst/>
          </a:prstGeom>
          <a:gradFill rotWithShape="0">
            <a:gsLst>
              <a:gs pos="0">
                <a:srgbClr val="009183"/>
              </a:gs>
              <a:gs pos="100000">
                <a:srgbClr val="00b7a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71600" y="19807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cece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1932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1039680" cy="6845400"/>
          </a:xfrm>
          <a:prstGeom prst="rect">
            <a:avLst/>
          </a:prstGeom>
          <a:gradFill rotWithShape="0">
            <a:gsLst>
              <a:gs pos="0">
                <a:srgbClr val="009183"/>
              </a:gs>
              <a:gs pos="100000">
                <a:srgbClr val="00b7a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pcollins@glenview34.org" TargetMode="External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strict 34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ssessment Snapshots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867280" y="1905120"/>
          <a:ext cx="281952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905120"/>
                    <a:ext cx="28195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906200" y="2727360"/>
            <a:ext cx="27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5320" y="4267080"/>
            <a:ext cx="37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tatus and Grow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2680" y="5665680"/>
            <a:ext cx="739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 Coll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ant Superintendent for Student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WEA Status Summary Spring 2007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371600" y="1371600"/>
          <a:ext cx="7316640" cy="4871880"/>
        </p:xfrm>
        <a:graphic>
          <a:graphicData uri="http://schemas.openxmlformats.org/drawingml/2006/table">
            <a:tbl>
              <a:tblPr/>
              <a:tblGrid>
                <a:gridCol w="1390680"/>
                <a:gridCol w="1922400"/>
                <a:gridCol w="1920960"/>
                <a:gridCol w="2082600"/>
              </a:tblGrid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g. Us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gh Achieving Norms Summar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7 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/18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t or above the HA targ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6 - 13/15 at or above the HA targ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5 - 12/15 at or above the HA targ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4 - 9/15 at or above the HA targ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71600" y="5029200"/>
            <a:ext cx="64771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elebrate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Growth Measur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9810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tatus Measures Alone are Not Enou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owth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 growth takes into account a student’s current grade and achievement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T point growth - target growth for students based on initial RIT score and grad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growth vs. Target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ntage of students meeting growth tar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tal Picture of Assess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3619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Achieving Norms target for overall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 performance compared to overal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3680" y="1980720"/>
            <a:ext cx="3619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T Point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growth compared to average of tar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ntage of students meeting tar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4880" y="5715000"/>
            <a:ext cx="65725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combination of both creates the whole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294920" y="22860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arison of Average Growth and the Average of Growth Targ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es our average growth loo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Growth 2006-2007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38080" y="1600200"/>
          <a:ext cx="807732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80773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hematics Growth 2006-2007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600200"/>
          <a:ext cx="807732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80773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hematics Growth 2004-2007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6680" y="1216080"/>
          <a:ext cx="7696440" cy="55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6080"/>
                    <a:ext cx="7696440" cy="55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nguage Usage Growth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006-2007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14400" y="1600200"/>
          <a:ext cx="807732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80773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Achievement Goa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sure student progress, we will increase the number of students meeting and exceeding their growth goals as measured by achievement indica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WEA Growth Target Summary Spring 2007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371600" y="1484280"/>
          <a:ext cx="7316640" cy="4622760"/>
        </p:xfrm>
        <a:graphic>
          <a:graphicData uri="http://schemas.openxmlformats.org/drawingml/2006/table">
            <a:tbl>
              <a:tblPr/>
              <a:tblGrid>
                <a:gridCol w="1390680"/>
                <a:gridCol w="1922400"/>
                <a:gridCol w="1920960"/>
                <a:gridCol w="20826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g. Us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6854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all - Spring Grow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47920" y="26665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percentage of  students met growth targe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rcent Met Targe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3-7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1219320"/>
          <a:ext cx="809316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80931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rcent Met Targe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hematics 3-8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838080" y="1219320"/>
          <a:ext cx="809316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80931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rcent Met Targe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h 7th &amp; 8th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861840" y="1219320"/>
          <a:ext cx="809316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1219320"/>
                    <a:ext cx="80931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rcent Met Targe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nguage Usage 3-7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61840" y="1219320"/>
          <a:ext cx="809316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1219320"/>
                    <a:ext cx="80931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ccelerated Ma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9810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tus and 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ring Accelerated Math-Statu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19320" y="1219320"/>
          <a:ext cx="881208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88120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rcent Met Targe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celerated Math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61840" y="1219320"/>
          <a:ext cx="809316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1219320"/>
                    <a:ext cx="80931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ath Support Stud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9810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tus and 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WEA Spring Scores - Status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WEA Spring Scores - Growth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lerated Math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 Support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BS Grade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ring Math Support-Statu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219320" y="1219320"/>
          <a:ext cx="881208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88120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h Support Growth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66680" y="1216080"/>
          <a:ext cx="7696440" cy="55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6080"/>
                    <a:ext cx="7696440" cy="55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rcent Met Targe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h Suppor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61840" y="1219320"/>
          <a:ext cx="809316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1219320"/>
                    <a:ext cx="80931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11426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istrict 34 Grades @ G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9810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34 Freshmen Grad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mester 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371600" y="1981080"/>
          <a:ext cx="7391520" cy="43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7391520" cy="43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006-2007 1st Semester Freshmen Grad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371600" y="1981080"/>
          <a:ext cx="7391520" cy="43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7391520" cy="43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commenda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aboration work amongst the middle school math teachers should begin prior to Janu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cece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opportunities for them to meet during th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Principals with Leaders Edge spreadsheet tool so they can dig further into the details of their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with math support program with the current group of students through next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8960" y="12189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05200" y="3094200"/>
            <a:ext cx="788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conta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il Coll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istant Superintendent for Student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pcollins@glenview34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847) 998-5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133360"/>
            <a:ext cx="7848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lenview Spring Scores compared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WEA High Achieving Norms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es our performance level compare with prior years and NWEA HA Norms?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tus Meas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ring 05/06/07 Read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1219320"/>
          <a:ext cx="881208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88120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ring 05/06/07 Math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219320" y="1219320"/>
          <a:ext cx="881208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88120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ring 05/06/07 Math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9040" y="1244520"/>
          <a:ext cx="987408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244520"/>
                    <a:ext cx="98740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ring 05/06/07 Math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79600" y="1066680"/>
          <a:ext cx="1009332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1066680"/>
                    <a:ext cx="100933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ring 05/06/07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nguage Usa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219320" y="1219320"/>
          <a:ext cx="881208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88120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18:40:20Z</dcterms:created>
  <dc:creator>Phil Collins</dc:creator>
  <dc:description/>
  <dc:language>en-US</dc:language>
  <cp:lastModifiedBy>Phil Collins</cp:lastModifiedBy>
  <cp:lastPrinted>2007-06-25T23:30:30Z</cp:lastPrinted>
  <dcterms:modified xsi:type="dcterms:W3CDTF">2007-06-26T02:10:59Z</dcterms:modified>
  <cp:revision>37</cp:revision>
  <dc:subject/>
  <dc:title>District 34  Assessment Snapshots</dc:title>
</cp:coreProperties>
</file>